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coin.wav" ContentType="audio/x-wav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6F7-A791-456F-9D94-2B09494614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8FB-5567-4908-972E-48EC09A7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6E96-F8B1-4279-BB62-507C2DC378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38BA-4A66-43D4-B575-D5543E27F56C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7534-CFA5-46CB-8EC2-FFE75CF61450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5C94-EDFC-4407-9321-9D532F5E31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420-A579-493D-8F0C-B3866983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27B-453D-4F96-B18A-43E39AB0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09020-A5AB-4827-8DC9-95E54DE8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813E4-408B-4DA0-BBBC-D785B955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EBF53-B92E-46E1-9DF4-E548C48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C0EEE-4C70-41DE-8161-7F3CCD1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8838-0985-4CFB-8FD2-71C2D74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F4CE-53A4-4DFB-91D2-359138F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D0210-F62B-4B3E-9F57-E692EE1F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A8CA4-2B24-498A-963B-EA894217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8C7DC-10E5-4F6A-A22E-AAC1AA58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B8985-462F-47E3-8A49-F0DB1140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A88-6D36-4868-B63A-0A6538B2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25A0E-5D98-4AF4-AD6F-2D3EF8E2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32EE7-1F9D-4259-AEC8-9B01DFDD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7B349-AE39-49F8-83B6-21E8F1ED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5C74F-0C56-4063-A3D5-D2482F93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A6E51-FBB3-401C-9D11-20EAA12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44F8D-FCB4-40C7-B5B3-0922A60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B515A-C452-4AB9-921A-1A5EDA4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BAD60-BAC5-4073-B64C-F3A80C5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E9456-C309-4B01-8F06-F78EF3DB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04250-BF8F-4BC4-84C7-D8ABFC86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CE1-99FD-4B44-B753-676DCC7E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DDE47-1EF4-49C5-8C15-E1ACE92A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F1C2-DAE3-46F0-9865-83BBEF43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3DF-ED15-4A3B-B36A-6B868C0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F3F440-6214-48CA-AD2E-F21C101D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862890-D5F8-48F8-B17D-694176D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472CDB-5910-424E-A90D-6B1E61D9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EDECD9-5DAA-419E-A21D-BA773A07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51E1FA-91CA-4E44-A3B6-22099CA9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4892-7B5D-40D5-BFFA-5477E16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BEB35E-14B7-460A-99BD-1E73923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1F5D7C-D887-4947-A037-FC557F9F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8DB0DD-F0B3-42A3-8D14-1817167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EDA664-F9D6-4FB8-A42B-E6D6C0F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CF4BB9-C528-44F9-A97D-BF46C7A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0AE8F3-B467-4FFB-BBE8-F5929416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A58D2E-5EF7-416D-BD01-06A13DC3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ADA9DB-F61F-4CFC-8865-2C84814F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D17AE7-7DE0-4063-87CE-8410B74E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5DF7A1-8F85-4A5B-A001-6E88CF5F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7665-555B-4E95-A68C-ABD96B8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46935C-C359-44AC-B0D3-D07CC65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0763EE-32F0-4915-BC66-65077FD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EDA262-8992-4FC1-8A16-FFB48D0A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F64D88-264D-479C-9D37-C1F205A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278273-5039-4C6E-B0A4-72C27AA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852AB1-2B22-45A5-9442-03568B0A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AE0834-3E0A-4EA4-B6FD-F57C7BD1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818EB4-03E6-4C77-A667-45D1488B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677749-424C-408F-85B8-08272435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A636E0-28E1-488D-94D6-D52D974D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A734-0D7E-4F7C-9550-9868DE1C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2AFF6F-2D39-4431-A034-76087015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212763-91AF-4775-81B7-A96758A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5A758D-77C7-4B2E-90A5-8C1F684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68A9F2-2F37-49EB-A688-60DF9DE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2A7211-7817-426C-BB58-C88CD637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E62BE7-D84D-4D3F-9B7F-F511F90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122A69-8762-4CD4-9289-E4CF6E1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B8E554-2BC7-44C6-A6A1-280A709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8C649A-AD58-46EE-B541-51E9D59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1E6DD6-C86B-43A1-AE9F-7B6C4B68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E5E-2D28-4C50-8BB6-2BA62FF3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84F853-6510-4135-8A3E-7F05FD46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EE7DF3-D6AA-48FD-AD40-3240B26B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B31109-AFE6-4ECF-BB1B-BBD312B0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C197C2-09B4-4B26-860C-FEC487B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8DC0F6-C0E4-4584-B6A8-A3D6210F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3C30CC-953F-4B03-814D-18CAA069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6B8912-EAB2-4DC6-8136-161265E9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1891E5-7CAD-4D18-9B42-6FA9F7C9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A42A21-A8B2-4822-B78A-1F732806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E12829-C029-4466-BFAA-46B468F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843E-C054-43C8-BCE6-10DDE7E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C96FEA-E250-4801-AEA9-9845293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2B998B-A839-4914-8C99-8E77C6AD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0ECFC4-206F-4AEA-ABA7-071B1C29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329-C8CE-4586-9FBD-F5DC975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AFA7-21CD-4823-A7DC-B0164D7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0A7E-DD25-42F3-80E1-AB6B234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50B3-9B36-4EC3-A02B-CB388060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1D15-4892-403B-AC53-21CF632B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B69C-4CDC-4E44-A022-C5B30B07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663E-CDE5-41FE-AC72-2E4752EC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D86E-A41A-4158-A861-08728BA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0B57-3E87-43A2-B0C2-835EACEE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413F-759B-49C5-9704-E032E04B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20E7-CD07-48C2-B398-DB12B969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E8A-1035-4FFC-BAAB-97A0DBA0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DC97-706C-4FFC-8A73-A6075C01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4FE7-7435-49DE-ACF7-6E4A410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DFF5-2258-45E3-93A5-FFFE0125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230F-7E4D-4014-AE95-534D94E7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4471-A546-4573-B8E8-08448B22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1921-0A56-4BA6-A6CC-399A2877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A879-C50A-46A5-81AF-1983B71D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15C7-1786-4B65-AD31-F9D2FFB7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7481-7F78-4C5C-BA11-8DD7562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A759-7A51-4513-9195-8B03F5C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149-A88D-41F8-BFAF-45B01DC2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0984-D2FD-41C8-9496-9E5AABEF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3862-D880-42BB-893D-9F68698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C031-761D-413F-9D13-71583BE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5981-2A5D-4544-A6A0-9DE2501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0C679-E4D7-4195-B2BE-0E5D11C7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E07B-D846-4B2B-B80C-515EE112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F47E3-7E33-4261-BAC1-25710043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A349A-4564-412B-959B-D499F7E0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0456-B4D8-4866-A36A-F4E1A5B9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5F6A-8867-47EF-AEC9-A163AD40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E4E-27EB-4DF9-9E85-2FA185E4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0757-0B7D-4B1C-91CA-C22AB97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2905-6AE8-43E8-AA45-E12ECAF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E7C2-95D2-47D4-A463-A10BA60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C172-E562-4E03-B111-FFD12526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61DF-2C67-466B-AC1A-B3A9FCA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BF1EA-0107-4762-A81F-0613837B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52E8-9B2A-4FAF-BDD8-0B9B3B1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58762-74FF-4648-BAB6-8573FEF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0FC4-B637-45E9-9E50-DAC6A39B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8F07-5480-42EB-B7A8-E4B8DB8F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D92-6C12-470B-ABD5-2E89F547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170CA-DA3B-4A17-88C6-3ECAFEDA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0567-30E4-46B0-9278-D669BBAD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CFAF-C828-495A-B053-038FB74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C5BC-6DDC-4DD8-80BE-DF4F7A69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81B8-48CE-4BFF-99D5-063FB1B2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8E216-EABB-4BBC-A296-79639A6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7E47B-3012-4737-AAFA-11131344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C8BB1-3AC2-4FE0-AEF6-10ADEC3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0F10-6C13-4DB4-B6EC-132D5A2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4929-ED31-4371-AA41-C15AF5E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8EE-37DD-4371-B1C2-E3A1069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37E1-1600-49AD-98EC-49187D3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CFB6-C1DB-44C9-ACBB-0AC4C469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ECB9-A977-48E9-AABD-B46EC1C4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C322-670F-4CE4-A44F-357165D0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8B33-FED1-4CC6-83AA-7A066F1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97DC-3A15-4A1B-B54D-A5B61873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F6F07-C50E-42E5-8764-73C81F19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800A5-570F-4968-BD15-DE365573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163F8-69D3-446C-ADAB-7877FA3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A970-0BE4-4EC3-901F-8FE844F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D56-7DC3-4BC4-8B4C-8DE1951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2E0D-8367-43DE-80AD-EE15D49E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9CF0-B52D-4B42-B916-4F23712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CE766-C1E9-4058-9542-4D42497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A8E74-F9F5-4A31-A723-AEF20376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83F74-02D2-4BEB-9229-43FC72F8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A95F-73BB-48B6-B1D1-58891D9D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935D-D972-4BEE-8BC5-0ED2C35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6DA5F-0FCF-48A3-8383-D11FE701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2996B-EE23-4603-8198-EB9FCC83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E8721-DA6C-42C0-AAD1-D45F57B7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359-5B16-4548-BF75-B1DB9AF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936BA-9166-4862-8033-8311B9FF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CE56-C3D9-4579-AC56-6978E75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9F43-5719-4E8A-BC35-113A0CF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5180-5241-4280-B155-3F5DB7C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1B21-84D5-44A6-92D1-97CB0CB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3835-77C5-4484-A29E-A1D442C2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F6BE-321D-48CC-B938-1290F9DA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0840D-0125-45FE-ACF9-5527B7B9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D4E6D-3954-4AD3-BCB5-995F5039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A3553-D2E9-416B-961A-72156DCB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82A8-B4F3-4600-B4C8-6AC577C3A7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ECCF-3418-4258-9A13-072E6736A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807-DC11-4524-933B-AA7FEB24A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F75-CE6C-4B4F-9E87-BE30BF00AC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31A-F8C3-4209-B5A6-1D5E8E0BF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037-80D0-429A-BCA4-D869B6011B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640-5D57-4F95-8803-2EFA1174F8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B4E1-C23A-4A6B-A439-1FF79D38E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E843-8BBE-4D30-968E-64B586A5D4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BA42-D0B5-4A09-BCFF-220998B1F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5CC9-5C39-4577-BD0F-84F56D948F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9FC9-6B6A-4B94-A16A-056E36721E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1FF0-B7DC-4DCE-89FA-BC9CB4FA15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DD6-0EA7-4E7E-8DFA-E1397080C7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auline est ma meilleure amie. Je parle tous les jours à Pauline et souvent je pose beaucoup de questions à Pauline. Je ne mens jamais à Pauline. Souvent le weekend, je rends visite à Pauline et si je ne rends pas visite à Pauline, je téléphone à Pauline tout le temp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Pour son anniversaire, j’achète un cadeau à Pauline et j’offre ce cadeau à Pauline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2209680"/>
            <a:ext cx="8229600" cy="3657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i, il y a beaucoup de répétitions du même nom « Pauline »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éviter ces répétitions, on va utiliser u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NOM PERSONNEL 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-1019520" y="1219320"/>
            <a:ext cx="118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sons cette histoire et dites ce qui ne va p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Remplace un nom de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ersonne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introduit par 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 or (</a:t>
            </a: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pour)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4572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1" name="Picture 9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3352680" y="4267080"/>
            <a:ext cx="26290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6002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+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0" y="48769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6" name="Picture 9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3962520" y="2209680"/>
            <a:ext cx="2628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142640" y="1752120"/>
            <a:ext cx="24382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e parle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p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2057400" y="304812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30"/>
          <p:cNvSpPr/>
          <p:nvPr/>
        </p:nvSpPr>
        <p:spPr>
          <a:xfrm>
            <a:off x="4038480" y="17524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a mè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456840" y="1828440"/>
            <a:ext cx="38098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J’ai téléphoné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 ai téléphon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1752480" y="30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6"/>
          <p:cNvSpPr/>
          <p:nvPr/>
        </p:nvSpPr>
        <p:spPr>
          <a:xfrm>
            <a:off x="3657600" y="18288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Emilie et Thom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2057400" y="380880"/>
            <a:ext cx="5943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Tahoma"/>
              </a:rPr>
              <a:t>Pronoms Personnels</a:t>
            </a: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objet indir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685800" y="281952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 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to 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/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you (fam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you (for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to him/her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R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 the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9" name="Picture 5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6705720" y="758880"/>
            <a:ext cx="19238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Rectangle 8"/>
          <p:cNvSpPr/>
          <p:nvPr/>
        </p:nvSpPr>
        <p:spPr>
          <a:xfrm>
            <a:off x="609480" y="2514600"/>
            <a:ext cx="3810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mand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nn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voy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tr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ler 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2" name="Picture 5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6858000" y="106668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4"/>
          <p:cNvSpPr/>
          <p:nvPr/>
        </p:nvSpPr>
        <p:spPr>
          <a:xfrm>
            <a:off x="3962520" y="2514600"/>
            <a:ext cx="344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give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end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how 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speak to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380880" y="2819520"/>
            <a:ext cx="4648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fri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er une question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êt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éléphoner à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6" name="Picture 5" descr="C:\Documents and Settings\vgrebert\Desktop\cartoon-people-figure[1].gif"/>
          <p:cNvPicPr/>
          <p:nvPr/>
        </p:nvPicPr>
        <p:blipFill>
          <a:blip r:embed="rId1"/>
          <a:stretch/>
        </p:blipFill>
        <p:spPr>
          <a:xfrm>
            <a:off x="7219800" y="1371600"/>
            <a:ext cx="1924200" cy="1743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4724280" y="2819520"/>
            <a:ext cx="344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o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ask a ques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le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o phone, to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0880" y="1218960"/>
            <a:ext cx="7850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Les pronoms d’objet indirec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e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 deviennen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e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’ </a:t>
            </a:r>
            <a:r>
              <a:rPr b="0" lang="en-US" sz="3600" spc="-1" strike="noStrike">
                <a:solidFill>
                  <a:srgbClr val="404040"/>
                </a:solidFill>
                <a:latin typeface="Calibri"/>
              </a:rPr>
              <a:t>devant un verbe dont la première lettre est une voyelle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FD46E953-D1D7-4907-BB85-48097E8ABB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1601640" y="3125880"/>
            <a:ext cx="533412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ronoms personnels remplacent un nom de personne ou de chose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orme du pronom personnel est déterminée par la fonction du nom qu’il remplace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4" name="Picture 5" descr="j0149481"/>
          <p:cNvPicPr/>
          <p:nvPr/>
        </p:nvPicPr>
        <p:blipFill>
          <a:blip r:embed="rId1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MPj03142650000[1]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8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85440" y="1295280"/>
            <a:ext cx="8077320" cy="281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LUI/LEUR se placent devant le verbe conjugué a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résent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 ou </a:t>
            </a:r>
            <a:r>
              <a:rPr b="0" i="1" lang="fr-FR" sz="4800" spc="-1" strike="noStrike">
                <a:solidFill>
                  <a:srgbClr val="105ca4"/>
                </a:solidFill>
                <a:latin typeface="Calibri"/>
              </a:rPr>
              <a:t>passé composé</a:t>
            </a:r>
            <a:r>
              <a:rPr b="0" lang="fr-FR" sz="4800" spc="-1" strike="noStrike">
                <a:solidFill>
                  <a:srgbClr val="105ca4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533376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105ca4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105ca4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440" y="22856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LUI/LEUR sont placés avant le verbe conjugué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à l’infinitif.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va offrir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à ses sœurs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va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leu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offri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AD7EC1F3-32A5-4507-BF4C-C027C1C2EB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9" name="Picture 1" descr=""/>
          <p:cNvPicPr/>
          <p:nvPr/>
        </p:nvPicPr>
        <p:blipFill>
          <a:blip r:embed="rId1"/>
          <a:stretch/>
        </p:blipFill>
        <p:spPr>
          <a:xfrm>
            <a:off x="55260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2"/>
          <p:cNvSpPr/>
          <p:nvPr/>
        </p:nvSpPr>
        <p:spPr>
          <a:xfrm>
            <a:off x="838080" y="83808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Complétez les phrases avec le pronom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d’objet indirect approprié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838080" y="2590920"/>
          <a:ext cx="7621560" cy="3641760"/>
        </p:xfrm>
        <a:graphic>
          <a:graphicData uri="http://schemas.openxmlformats.org/drawingml/2006/table">
            <a:tbl>
              <a:tblPr/>
              <a:tblGrid>
                <a:gridCol w="7621560"/>
              </a:tblGrid>
              <a:tr h="364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 montres tes photos?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, je ____ donne ma nouvelle adress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a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us _______ posez de bonnes question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us ____   avons demandé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______ achète une nouvelle rob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, form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s parents ________ ont acheté un tailleur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e vais ________ téléphoner à dix heures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34308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lle va ________ prêter sa jupe.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2" name="Text Box 5"/>
          <p:cNvSpPr/>
          <p:nvPr/>
        </p:nvSpPr>
        <p:spPr>
          <a:xfrm>
            <a:off x="1828800" y="2571840"/>
            <a:ext cx="76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n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057400" y="304812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2057400" y="342900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2209680" y="5638680"/>
            <a:ext cx="762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m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1523880" y="42670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vou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743200" y="47242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2209680" y="5181480"/>
            <a:ext cx="99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u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1905120" y="3962520"/>
            <a:ext cx="76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Leu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e3"/>
                </a:solidFill>
                <a:latin typeface="Calibri"/>
              </a:rPr>
              <a:t>Les Pronoms 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2514600" y="2362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A F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nto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joue de la guit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2438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nom sujet :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762120" y="3657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im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re lyc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12952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i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/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S/EL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3276360" y="11430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609480" y="1828800"/>
            <a:ext cx="8534520" cy="4480920"/>
          </a:xfrm>
          <a:prstGeom prst="rect">
            <a:avLst/>
          </a:prstGeom>
          <a:noFill/>
          <a:ln w="9360">
            <a:solidFill>
              <a:srgbClr val="d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est sujet du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to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609480" y="1676520"/>
            <a:ext cx="77724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om est introduit par un article défini, un adjectif possessif ou démonstrat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/mon/ce pr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0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9"/>
          <p:cNvSpPr/>
          <p:nvPr/>
        </p:nvSpPr>
        <p:spPr>
          <a:xfrm>
            <a:off x="3124080" y="5638680"/>
            <a:ext cx="6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07258E-006 L -0.00851 0.08992 E">
                                      <p:cBhvr>
                                        <p:cTn id="72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09480" y="16765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a nouvelle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212148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Picture 8" descr="j0212957"/>
          <p:cNvPicPr/>
          <p:nvPr/>
        </p:nvPicPr>
        <p:blipFill>
          <a:blip r:embed="rId1"/>
          <a:stretch/>
        </p:blipFill>
        <p:spPr>
          <a:xfrm>
            <a:off x="4419720" y="44956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738E-006 L -0.00191 0.07999 E">
                                      <p:cBhvr>
                                        <p:cTn id="90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1447920" y="243828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- 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838080" y="19051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lacent devant le verbe conjugu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’ad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 livre de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1744920" y="3505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ad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3124080" y="3505320"/>
            <a:ext cx="36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1358640" y="4267080"/>
            <a:ext cx="76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vons adoré ces vac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533520" y="48006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vons adoré</a:t>
            </a:r>
            <a:r>
              <a:rPr b="0" lang="en-US" sz="3200" spc="-1" strike="noStrike">
                <a:solidFill>
                  <a:srgbClr val="d2d2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17856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7:05:15Z</dcterms:created>
  <dc:creator>Mr. Smith</dc:creator>
  <dc:description/>
  <dc:language>en-US</dc:language>
  <cp:lastModifiedBy>Administrator</cp:lastModifiedBy>
  <dcterms:modified xsi:type="dcterms:W3CDTF">2011-11-28T18:29:43Z</dcterms:modified>
  <cp:revision>106</cp:revision>
  <dc:subject/>
  <dc:title>Allez, viens! – Level 2</dc:title>
</cp:coreProperties>
</file>